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E4E5-B800-40BF-9524-B6D9D0A5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120-F0EF-4114-BCF1-CD757110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CBA0-234C-4DD2-B14F-C5EA3326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36C1-FE89-4348-97DA-4649F66A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8218-BBF9-4D19-B391-0CAF2073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4F27-A977-4269-8F2B-F08C1A22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326E-79ED-41F3-AFD4-96FA487C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C3B0-2026-4A64-8A8C-1964401A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01CD-BE4B-445C-96E5-18CB3862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C047-3224-4D10-B426-85B05E62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7686-FC39-4920-81C2-2400A5D9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0EC0-78F6-489E-B053-65427332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5177-6B5E-4C39-8EDC-B0D59828F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Comic Sans MS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Chalkboard"/>
              </a:rPr>
              <a:t>What affect does gender have on favorite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77120" y="2743200"/>
            <a:ext cx="1361880" cy="1793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Mrs. Riffel for helping me use Pand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"Pandora Radio - Wikipedia, the free encyclopedia." </a:t>
            </a:r>
            <a:r>
              <a:rPr b="0" i="1" lang="en-US" sz="1800" spc="-1" strike="noStrike">
                <a:solidFill>
                  <a:srgbClr val="990099"/>
                </a:solidFill>
                <a:latin typeface="Arial"/>
              </a:rPr>
              <a:t>Wikipedia, the free encyclopedia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. N.p., n.d. Web. 24 Mar. 2011. &lt;http://en.wikipedia.org/wiki/Pandora_(music_service)&gt;.</a:t>
            </a: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327636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"Pandora Radio - Listen to Free Internet Radio, Find New Music." </a:t>
            </a:r>
            <a:r>
              <a:rPr b="0" i="1" lang="en-US" sz="1800" spc="-1" strike="noStrike">
                <a:solidFill>
                  <a:srgbClr val="990099"/>
                </a:solidFill>
                <a:latin typeface="Arial"/>
              </a:rPr>
              <a:t>Pandora Radio - Listen to Free Internet Radio, Find New Music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. N.p., n.d. Web. 24 Mar. 2011. &lt;http://www.pandora.com/#/&gt;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Chalkboard"/>
              </a:rPr>
              <a:t>Have you ever wondered why some kinds of music are more popular than others? Have you wondered if gender has and affect on favorite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Comic Sans MS"/>
              </a:rPr>
              <a:t>Background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Some of the different types of songs may have an effect on rhythm tonality, vocal harmonies, and the sounds of instru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There are 2,000 focus traits, and that means things that make up mus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I think the guys will like faster beats rather than slower beats, and the girls will like maybe in between fast speed and slow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Comic Sans MS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A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Note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5 Bo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5 Gi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First you have 5 boys and 5 gir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Next you have them type in a song that they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Then you let them listen to songs that pandora finds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Finally you compare observations and see what girls like more and what boys like mo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Comic Sans MS"/>
              </a:rPr>
              <a:t>Major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halkboard"/>
              </a:rPr>
              <a:t>There was more variety in girls and in guys. Most of the people that I tested, the music they like had to do with the vocal harmon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halkboard"/>
              </a:rPr>
              <a:t>The girls liked more of electronica influences, rather than the boys. Electronica influences are the sounds that people put on a song that make it have an echo or other sound eff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In the boys and girls there wasn’t much of a difference, but there was many that had to do with how the singer’s voice sounded like in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Comic Sans MS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My hypothesis was incorrect, because I thought there would be a difference between boy and girls. There was many of the same things of each g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0:56:20Z</dcterms:created>
  <dc:creator>USD376</dc:creator>
  <dc:description/>
  <dc:language>en-US</dc:language>
  <cp:lastModifiedBy>USD376</cp:lastModifiedBy>
  <dcterms:modified xsi:type="dcterms:W3CDTF">2011-03-28T14:12:28Z</dcterms:modified>
  <cp:revision>16</cp:revision>
  <dc:subject/>
  <dc:title>Problem</dc:title>
</cp:coreProperties>
</file>